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B79-1728-4A86-B909-3209F79F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CAC-B9D7-4165-8685-35CDBE02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F16-A0CE-40B9-A4D2-0D47A532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F9C-83EE-4AE3-A34B-F137F58C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890E-BFEB-4D71-89B5-9FC59AF9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6F4B-49D8-446E-82F8-2319E27C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5C65-7A51-420F-B86F-0267BCB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D2F7-757E-44AC-842A-B604957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C0FA-2203-4B0A-B876-47A1E98D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C9E-CEC4-4DCA-9E13-E622357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88B5-1468-474E-AC1A-96879B08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25A-2B01-40B5-9CE8-84FF9A8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A39A-F078-4F88-BD94-B65006AC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C768-84F0-41D0-97CB-AF2CBF8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D39-7ADD-4500-A43A-F1ACBF1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027-A9B1-47A9-AD44-4CD0AD5E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E1BD-821A-4DCC-8724-6472ED7A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1F5-E381-4B26-8F53-4DC41C0F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525-6108-4D99-AA03-8B45C75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042-E14B-4CFA-A55C-0AE12DD8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A7D-AA9B-47FF-84AF-1F8881BF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FA8-6AC6-4605-8ECC-16047A32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B15-A888-45E5-AEBE-D11DC18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976-2547-4B70-AE63-5EC7F6C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BB5-5425-4101-9C79-C22252D2470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758-0840-44FE-945A-CD55C43E470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nor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ocabular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xed Numb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ixed number is a whole number plus a frac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xample:  3 ½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era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umerator the top number of a fraction that tells how many parts of a whole are being conside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22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 </a:t>
            </a:r>
            <a:r>
              <a:rPr b="0" lang="en-US" sz="8800" spc="-1" strike="noStrike">
                <a:solidFill>
                  <a:srgbClr val="ffcc00"/>
                </a:solidFill>
                <a:latin typeface="Arial Black"/>
              </a:rPr>
              <a:t>½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 rot="841800">
            <a:off x="2303280" y="434448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39a6d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nominat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nominator the bottom number of a fraction that tells how many equal parts are in the whole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22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:  </a:t>
            </a:r>
            <a:r>
              <a:rPr b="0" lang="en-US" sz="8800" spc="-1" strike="noStrike">
                <a:solidFill>
                  <a:srgbClr val="ffcc00"/>
                </a:solidFill>
                <a:latin typeface="Arial Black"/>
              </a:rPr>
              <a:t>½ 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4952880"/>
            <a:ext cx="1371600" cy="304920"/>
          </a:xfrm>
          <a:prstGeom prst="leftArrow">
            <a:avLst>
              <a:gd name="adj1" fmla="val 50000"/>
              <a:gd name="adj2" fmla="val 112456"/>
            </a:avLst>
          </a:prstGeom>
          <a:solidFill>
            <a:srgbClr val="39a6dd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13:39Z</dcterms:created>
  <dc:creator>connor.kerr</dc:creator>
  <dc:description/>
  <dc:language>en-US</dc:language>
  <cp:lastModifiedBy>connor.kerr</cp:lastModifiedBy>
  <dcterms:modified xsi:type="dcterms:W3CDTF">2010-11-23T20:38:15Z</dcterms:modified>
  <cp:revision>2</cp:revision>
  <dc:subject/>
  <dc:title>Connor  </dc:title>
</cp:coreProperties>
</file>